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F1E-D388-43DC-AAE3-4E83EFB7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1AF-E30C-4D94-8A28-1CF2D17A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8AD-B11B-450E-9986-EE4947B0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A55-E256-4496-A29A-3B391B0C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6A3-BDC5-4716-9E72-907C81A8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9AF-35D0-4373-838B-076724DE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61C-BCD4-418E-828E-ADC1DD02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CF3-6A0C-4C2A-AB9B-2E4403CF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B93-9765-4224-8287-47D90484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414-DA85-4FF9-A65D-33556A1E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A44-B888-437F-AF43-DA3A41D6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7123-904F-4937-98F8-033EDE4D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64F9-572A-4E32-BE80-DD86A6FA0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scholaris.pl/cms/index.php/resources/animacja_cechy_dominuj&#261;ce_i_recesywne.html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tm.purdue.edu/extensiongenomics/GAME/pinkflowers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720" y="1125000"/>
            <a:ext cx="42688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993300"/>
                </a:solidFill>
                <a:latin typeface="Comic Sans MS"/>
              </a:rPr>
              <a:t>Monohibridinis ir dihibridinis kryžmin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08720" y="4581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>
                <a:solidFill>
                  <a:srgbClr val="000000"/>
                </a:solidFill>
                <a:latin typeface="Comic Sans MS"/>
              </a:rPr>
              <a:t>Mendelio dėsni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6047" t="0" r="7246" b="0"/>
          <a:stretch/>
        </p:blipFill>
        <p:spPr>
          <a:xfrm>
            <a:off x="250920" y="189000"/>
            <a:ext cx="4046400" cy="60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Comic Sans MS"/>
              </a:rPr>
              <a:t>Monohibridinis kryžmin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90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Comic Sans MS"/>
              </a:rPr>
              <a:t>Vykdomas, kai tiriamas vieno požymio paveldėjimas: (pvz.: žiedo spalva, vaisiaus forma, plaukų ar akių spalva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Comic Sans MS"/>
              </a:rPr>
              <a:t>Mendelis kryžmino žirnius su skirtingais požymiais, ir tyrė palikuonių požym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384720" cy="36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771640" y="2421000"/>
          <a:ext cx="3538440" cy="2576520"/>
        </p:xfrm>
        <a:graphic>
          <a:graphicData uri="http://schemas.openxmlformats.org/drawingml/2006/table">
            <a:tbl>
              <a:tblPr/>
              <a:tblGrid>
                <a:gridCol w="792000"/>
                <a:gridCol w="1152720"/>
                <a:gridCol w="159372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1261080" y="1341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2160" y="1341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760" y="25812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9440" y="256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43280" y="70956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43280" y="128592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43280" y="207792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43280" y="287028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rot="16201200">
            <a:off x="4521240" y="957960"/>
            <a:ext cx="957240" cy="1866960"/>
          </a:xfrm>
          <a:custGeom>
            <a:avLst/>
            <a:gdLst>
              <a:gd name="textAreaLeft" fmla="*/ 611640 w 957240"/>
              <a:gd name="textAreaRight" fmla="*/ 957600 w 957240"/>
              <a:gd name="textAreaTop" fmla="*/ 48600 h 1866960"/>
              <a:gd name="textAreaBottom" fmla="*/ 1818360 h 186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23"/>
                </a:lnTo>
                <a:cubicBezTo>
                  <a:pt x="10800" y="10123"/>
                  <a:pt x="5400" y="11023"/>
                  <a:pt x="0" y="11023"/>
                </a:cubicBezTo>
                <a:cubicBezTo>
                  <a:pt x="5400" y="11023"/>
                  <a:pt x="10800" y="11923"/>
                  <a:pt x="10800" y="128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3068640"/>
            <a:ext cx="720720" cy="1873080"/>
          </a:xfrm>
          <a:custGeom>
            <a:avLst/>
            <a:gdLst>
              <a:gd name="textAreaLeft" fmla="*/ 460440 w 720720"/>
              <a:gd name="textAreaRight" fmla="*/ 721080 w 72072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43200" y="10270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teriškos gam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79080" y="4558680"/>
            <a:ext cx="23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yriškos gam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5589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A- dominuojantis požy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a- recesyvinis požy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260280"/>
            <a:ext cx="280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geltonos sėk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- žalios sėk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- homozigotas, geltonomis sėklo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X – kryžminimo ženk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aa-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 homozigotas žaliomis sėklo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- heterozigotas geltonomis sėklo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26028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AA    X   aa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187280" y="692280"/>
            <a:ext cx="1944720" cy="93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19280" y="692280"/>
            <a:ext cx="1944720" cy="93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042560" y="692280"/>
            <a:ext cx="3816360" cy="223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402920" y="620640"/>
            <a:ext cx="3745080" cy="230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85 0.0222 L 0.29288 0.14824 E">
                                      <p:cBhvr>
                                        <p:cTn id="105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9.89824E-007 L 0.46579 0.15865 E">
                                      <p:cBhvr>
                                        <p:cTn id="10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31 -0.00116 L 0.22517 0.09343 E">
                                      <p:cBhvr>
                                        <p:cTn id="113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-0.01966 L 0.19514 0.2426 E">
                                      <p:cBhvr>
                                        <p:cTn id="11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1989 L -0.40365 0.37534 E">
                                      <p:cBhvr>
                                        <p:cTn id="12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0.00925 L -0.26962 0.2715 E">
                                      <p:cBhvr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51 0.05134 L -0.41146 0.29278 E">
                                      <p:cBhvr>
                                        <p:cTn id="147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1989 L -0.26181 0.18756 E">
                                      <p:cBhvr>
                                        <p:cTn id="15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640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Požymis: sėklos pavirš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Aleliai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: 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 – </a:t>
            </a: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lygios sėklos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        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 – </a:t>
            </a: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raukšlėtos sėk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Kryžminimas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: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Lygios sėklos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x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raukšlėtos sėk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400" spc="-1" strike="noStrike">
                <a:solidFill>
                  <a:srgbClr val="993300"/>
                </a:solidFill>
                <a:latin typeface="Comic Sans MS"/>
              </a:rPr>
              <a:t>P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♀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RR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x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♂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00"/>
                </a:solidFill>
                <a:latin typeface="Comic Sans MS"/>
              </a:rPr>
              <a:t>Gametos: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♀ 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  <a:ea typeface="Arial"/>
              </a:rPr>
              <a:t>R ; R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♂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 r;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26920" y="3429000"/>
          <a:ext cx="2675160" cy="2643120"/>
        </p:xfrm>
        <a:graphic>
          <a:graphicData uri="http://schemas.openxmlformats.org/drawingml/2006/table">
            <a:tbl>
              <a:tblPr/>
              <a:tblGrid>
                <a:gridCol w="892440"/>
                <a:gridCol w="890640"/>
                <a:gridCol w="892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 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826920" y="3429000"/>
            <a:ext cx="8654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83520" y="29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8440" y="29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1400" y="4724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2680" y="5516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124000" y="2708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2637000"/>
            <a:ext cx="215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258560" y="2637000"/>
            <a:ext cx="230508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332000" y="2852640"/>
            <a:ext cx="2448000" cy="28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00" y="364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4581360"/>
            <a:ext cx="576000" cy="576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4581360"/>
            <a:ext cx="576360" cy="576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5445000"/>
            <a:ext cx="576000" cy="576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71640" y="5373720"/>
            <a:ext cx="576360" cy="576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79640" y="3860640"/>
            <a:ext cx="21600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869000"/>
            <a:ext cx="10810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2421000"/>
            <a:ext cx="4535280" cy="374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Atsaky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Genotipas :Rr (heterozig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Fenotipas – lygios s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ėk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F</a:t>
            </a:r>
            <a:r>
              <a:rPr b="1" i="1" lang="en-US" sz="1200" spc="-1" strike="noStrike">
                <a:solidFill>
                  <a:srgbClr val="cc3300"/>
                </a:solidFill>
                <a:latin typeface="Comic Sans MS"/>
              </a:rPr>
              <a:t>1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: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visi individa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Heterozigotai lygiom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sėklo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05273E-006 L 0.00434 0.10314 E">
                                      <p:cBhvr>
                                        <p:cTn id="19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05273E-006 L 0.00452 0.09274 E">
                                      <p:cBhvr>
                                        <p:cTn id="19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11656E-006 L 0.09531 -0.00161 E">
                                      <p:cBhvr>
                                        <p:cTn id="20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47826E-006 L 0.07951 -0.00162 E">
                                      <p:cBhvr>
                                        <p:cTn id="205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Comic Sans MS"/>
              </a:rPr>
              <a:t>I Mendelio dės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Kryžminant homozigotus F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kartoje visi palikuonys turėsheterozigotinį genotipą ir vienodą dominuojančio požymio fenotip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irmasis Mendelio dėsnis</a:t>
            </a:r>
            <a:r>
              <a:rPr b="1" i="1" lang="lt-LT" sz="3200" spc="-1" strike="noStrike">
                <a:solidFill>
                  <a:srgbClr val="cc3300"/>
                </a:solidFill>
                <a:latin typeface="Comic Sans MS"/>
                <a:ea typeface="Arial"/>
              </a:rPr>
              <a:t> -Pirmos kartos vienodumo taisykl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372360" y="4292640"/>
            <a:ext cx="16761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362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Požymis: sėklos paviršius ( kryžminame F</a:t>
            </a:r>
            <a:r>
              <a:rPr b="1" i="1" lang="en-US" sz="2400" spc="-1" strike="noStrike">
                <a:solidFill>
                  <a:srgbClr val="724c26"/>
                </a:solidFill>
                <a:latin typeface="Comic Sans MS"/>
              </a:rPr>
              <a:t>1</a:t>
            </a: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 kartos hibrid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Aleliai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: 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 – </a:t>
            </a: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lygios sėklos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        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 – </a:t>
            </a: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raukšlėtos sėk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Kryžminimas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: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Lygios sėklos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x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Lygios sėk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400" spc="-1" strike="noStrike">
                <a:solidFill>
                  <a:srgbClr val="993300"/>
                </a:solidFill>
                <a:latin typeface="Comic Sans MS"/>
              </a:rPr>
              <a:t>P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♀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r 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x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♂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00"/>
                </a:solidFill>
                <a:latin typeface="Comic Sans MS"/>
              </a:rPr>
              <a:t>Gametos: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♀ </a:t>
            </a:r>
            <a:r>
              <a:rPr b="1" i="1" lang="en-GB" sz="2800" spc="-1" strike="noStrike">
                <a:solidFill>
                  <a:srgbClr val="cc3300"/>
                </a:solidFill>
                <a:latin typeface="Comic Sans MS"/>
                <a:ea typeface="Arial"/>
              </a:rPr>
              <a:t>R ; </a:t>
            </a:r>
            <a:r>
              <a:rPr b="1" i="1" lang="lt-LT" sz="2800" spc="-1" strike="noStrike">
                <a:solidFill>
                  <a:srgbClr val="cc3300"/>
                </a:solidFill>
                <a:latin typeface="Comic Sans MS"/>
                <a:ea typeface="Arial"/>
              </a:rPr>
              <a:t>r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♂</a:t>
            </a:r>
            <a:r>
              <a:rPr b="1" i="1" lang="en-GB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i="1" lang="lt-LT" sz="2800" spc="-1" strike="noStrike">
                <a:solidFill>
                  <a:srgbClr val="cc3300"/>
                </a:solidFill>
                <a:latin typeface="Comic Sans MS"/>
              </a:rPr>
              <a:t>R </a:t>
            </a:r>
            <a:r>
              <a:rPr b="1" i="1" lang="en-GB" sz="2800" spc="-1" strike="noStrike">
                <a:solidFill>
                  <a:srgbClr val="cc3300"/>
                </a:solidFill>
                <a:latin typeface="Comic Sans MS"/>
              </a:rPr>
              <a:t>;</a:t>
            </a:r>
            <a:r>
              <a:rPr b="1" i="1" lang="lt-LT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i="1" lang="en-GB" sz="2800" spc="-1" strike="noStrike">
                <a:solidFill>
                  <a:srgbClr val="cc33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3716280"/>
            <a:ext cx="8654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26920" y="3716280"/>
          <a:ext cx="2459160" cy="2909880"/>
        </p:xfrm>
        <a:graphic>
          <a:graphicData uri="http://schemas.openxmlformats.org/drawingml/2006/table">
            <a:tbl>
              <a:tblPr/>
              <a:tblGrid>
                <a:gridCol w="820800"/>
                <a:gridCol w="817560"/>
                <a:gridCol w="820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 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1692360" y="3860640"/>
            <a:ext cx="718920" cy="648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4941720"/>
            <a:ext cx="719280" cy="648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5805360"/>
            <a:ext cx="719280" cy="648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3860640"/>
            <a:ext cx="719280" cy="648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4941720"/>
            <a:ext cx="718920" cy="648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4869000"/>
            <a:ext cx="719280" cy="647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Arial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5805360"/>
            <a:ext cx="718920" cy="648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Arial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5877000"/>
            <a:ext cx="719280" cy="647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Arial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2421000"/>
            <a:ext cx="4968720" cy="374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Atsaky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Genotipa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 :Rr (heterozig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           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RR (homozig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           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rr (homozig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Fenotipa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I: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 – lygios s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ėk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             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raukšlėtos sėk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F</a:t>
            </a:r>
            <a:r>
              <a:rPr b="1" i="1" lang="en-US" sz="1200" spc="-1" strike="noStrike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: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Genotipai: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1:2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Fenotipai: 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2360" y="38606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1" i="1" lang="lt-LT" sz="4400" spc="-1" strike="noStrike">
                <a:solidFill>
                  <a:srgbClr val="000000"/>
                </a:solidFill>
                <a:latin typeface="Comic Sans MS"/>
              </a:rPr>
              <a:t>Mendelio dės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Kryžminant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1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kartos heterozigotinius organizmus tarpusavyj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F2 kartoje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gauname palikuonis, kuriu požy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iai pagal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feno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t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ipą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išsiskiria santykiu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733480" cy="302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00200" y="528480"/>
            <a:ext cx="5943600" cy="580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265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4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Užduo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1844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uda pel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ė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susiporavo su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juoda pele. Visi pirmosios kartos palikuonys gimė ju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Nurodyk, kuris kailio spalvos alelis dominuoja, kuris – recesyvinis ir sudaryk kry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ž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inimo shem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Paaiškink, kodėl pirmos kartos palikuonys gimė juo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r gali dvi juodos pelės susilaukti rudų palikuonių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Atsakymą iliustruok braižydamas kryžminimo schem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46361"/>
          <a:stretch/>
        </p:blipFill>
        <p:spPr>
          <a:xfrm>
            <a:off x="2627280" y="4373640"/>
            <a:ext cx="4259160" cy="190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Atsaky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125360"/>
            <a:ext cx="3168720" cy="1656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A- juoda kailio spa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a- ruda kailio spa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♂ aa X ♀ 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Gametos : 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♂ a ;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                 ♀  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A ;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068640"/>
            <a:ext cx="3889440" cy="23749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476360" y="3357720"/>
          <a:ext cx="2471760" cy="2050920"/>
        </p:xfrm>
        <a:graphic>
          <a:graphicData uri="http://schemas.openxmlformats.org/drawingml/2006/table">
            <a:tbl>
              <a:tblPr/>
              <a:tblGrid>
                <a:gridCol w="824040"/>
                <a:gridCol w="824040"/>
                <a:gridCol w="8236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396720" y="32418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3429000"/>
            <a:ext cx="720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9080" y="371628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335772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39440" y="35067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31440" y="3433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39160" y="41544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9160" y="487512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22440" y="41497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87520" y="4221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22440" y="4869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87520" y="4869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27640" y="1052640"/>
            <a:ext cx="3889440" cy="1655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A- juoda kailio spa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a- ruda kailio spa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♂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 X ♀ 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Gametos : 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♂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 ;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                 ♀  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A ;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06440" y="8366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620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781360"/>
            <a:ext cx="3889080" cy="23749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5589720"/>
            <a:ext cx="4392720" cy="936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otipas – heterozigotas: 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enotipas : Juoda kailio spa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Arial"/>
              </a:rPr>
              <a:t>Ats.: F1 kartos palikuonys visi ju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28880" y="285264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651640" y="2924280"/>
          <a:ext cx="2471760" cy="2124000"/>
        </p:xfrm>
        <a:graphic>
          <a:graphicData uri="http://schemas.openxmlformats.org/drawingml/2006/table">
            <a:tbl>
              <a:tblPr/>
              <a:tblGrid>
                <a:gridCol w="823680"/>
                <a:gridCol w="824040"/>
                <a:gridCol w="82404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6676560" y="3068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84200" y="3789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0760" y="306864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36400" y="450864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70800" y="4437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93040" y="378936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68920" y="443700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6160" y="292428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52720" y="328464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2924280"/>
            <a:ext cx="72072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5229360"/>
            <a:ext cx="4464000" cy="1628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otipas – heterozigotas: A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Homozigotas: AA( juodi) ; aa(ru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enotipas : Juoda kailio spa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uda kailio mspa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Arial"/>
              </a:rPr>
              <a:t>Ats.: F2 kartos palikuonys 75% juod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Arial"/>
              </a:rPr>
              <a:t>25 % ru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alizuojamasis kry</a:t>
            </a:r>
            <a:r>
              <a:rPr b="1" i="1" lang="lt-LT" sz="4400" spc="-1" strike="noStrike">
                <a:solidFill>
                  <a:srgbClr val="000000"/>
                </a:solidFill>
                <a:latin typeface="Comic Sans MS"/>
              </a:rPr>
              <a:t>ž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min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8360" y="2637000"/>
            <a:ext cx="8075520" cy="3689280"/>
            <a:chOff x="468360" y="2637000"/>
            <a:chExt cx="8075520" cy="368928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468360" y="2637000"/>
              <a:ext cx="8075520" cy="36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 txBox="1"/>
            <p:nvPr/>
          </p:nvSpPr>
          <p:spPr>
            <a:xfrm>
              <a:off x="468360" y="2637000"/>
              <a:ext cx="8075520" cy="368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140360" y="4365720"/>
            <a:ext cx="863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1268280"/>
            <a:ext cx="8713800" cy="1368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nalizuojamasis kryžminimas atliekamas, norint nustaty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r individas turintis dominuojančio požym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o 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fenotipą y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heterozigotas 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homozigo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Gregoras Mendelis (1822-1884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87280" y="980640"/>
            <a:ext cx="5977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Gyveno Austrijoje, buvo vienuolis, gamtos mokyto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asirinkęs žirnius, kaip tyrimo objektus, jis pirmasis išaiškino kaip paveldimi požymi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ugebėjo apskaičiuoti paveldėjimo dėsningumus dar prieš atrandant genus ir DN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10269" b="3974"/>
          <a:stretch/>
        </p:blipFill>
        <p:spPr>
          <a:xfrm>
            <a:off x="539640" y="1125360"/>
            <a:ext cx="2222640" cy="27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893080" cy="583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2579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Nepilnas dominav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10288"/>
          <a:stretch/>
        </p:blipFill>
        <p:spPr>
          <a:xfrm>
            <a:off x="468360" y="765000"/>
            <a:ext cx="8351640" cy="5400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708360" y="3357720"/>
            <a:ext cx="2160720" cy="431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Rožinis ( Ww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62800" y="106920"/>
            <a:ext cx="5406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ėlininkas sukryžmino tos pačios rūši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t skirtinga spalva (raudona ir bal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žydėjusias gėles. Po to surinko j</a:t>
            </a:r>
            <a:r>
              <a:rPr b="1" i="1" lang="lt-L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fi-FI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rendusias sėklas.</a:t>
            </a:r>
            <a:r>
              <a:rPr b="1" i="1" lang="lt-L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fi-FI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itais metais iš sėkl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šaugo tik rausvai žydintys augal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40" y="1699200"/>
            <a:ext cx="591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Comic Sans MS"/>
              </a:rPr>
              <a:t>Užrašykite gėlininko kryžminamų gėlių 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Comic Sans MS"/>
              </a:rPr>
              <a:t>iš jų sėkl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Comic Sans MS"/>
              </a:rPr>
              <a:t>išaugintų augalų  genotipus simboli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Comic Sans MS"/>
              </a:rPr>
              <a:t>Alelius žymėkit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i="1" lang="lt-LT" sz="2000" spc="-1" strike="noStrike">
                <a:solidFill>
                  <a:srgbClr val="000000"/>
                </a:solidFill>
                <a:latin typeface="Comic Sans MS"/>
              </a:rPr>
              <a:t> raidėmis A i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3067200"/>
            <a:ext cx="46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Comic Sans MS"/>
              </a:rPr>
              <a:t>2. Gėlininkas sukryžmino rausvai žydinčius augalus, tikėdamasis gauti sėklų, iš kurių i</a:t>
            </a:r>
            <a:r>
              <a:rPr b="1" i="1" lang="lt-LT" sz="2000" spc="-1" strike="noStrike">
                <a:solidFill>
                  <a:srgbClr val="000000"/>
                </a:solidFill>
                <a:latin typeface="Comic Sans MS"/>
              </a:rPr>
              <a:t>š</a:t>
            </a:r>
            <a:r>
              <a:rPr b="1" i="1" lang="pt-BR" sz="2000" spc="-1" strike="noStrike">
                <a:solidFill>
                  <a:srgbClr val="000000"/>
                </a:solidFill>
                <a:latin typeface="Comic Sans MS"/>
              </a:rPr>
              <a:t>augtų kiek galima įvairesnių spalvų žiedus turintys augalai. Genetiniais simboliais užrašykite ir paaiškinkite, kodėl gėlininkas pasirinko rausvai žydinčius auga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00" y="5659920"/>
            <a:ext cx="70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3. Kaip vadinamas nurody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s paveldėjimo tipa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31685" t="0" r="0" b="2553"/>
          <a:stretch/>
        </p:blipFill>
        <p:spPr>
          <a:xfrm>
            <a:off x="5580000" y="333360"/>
            <a:ext cx="3564000" cy="5327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84720" y="1557360"/>
            <a:ext cx="57492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8360" y="1557360"/>
            <a:ext cx="75564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12000" y="2276640"/>
            <a:ext cx="574920" cy="358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3640" y="3500280"/>
            <a:ext cx="57456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3500280"/>
            <a:ext cx="57456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04000" y="4149720"/>
            <a:ext cx="43200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4581360"/>
            <a:ext cx="43164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4149720"/>
            <a:ext cx="43200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0720" y="5157720"/>
            <a:ext cx="43200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38320" y="1467000"/>
            <a:ext cx="6867360" cy="39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52000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5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0" t="924" r="0" b="26848"/>
          <a:stretch/>
        </p:blipFill>
        <p:spPr>
          <a:xfrm>
            <a:off x="395280" y="404640"/>
            <a:ext cx="8497800" cy="5616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835280" y="260280"/>
            <a:ext cx="1079280" cy="50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2360" y="476280"/>
            <a:ext cx="1079280" cy="50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03640" y="3068640"/>
            <a:ext cx="1079640" cy="50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5877000"/>
            <a:ext cx="1079640" cy="50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6360" y="5877000"/>
            <a:ext cx="1079280" cy="50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5805360"/>
            <a:ext cx="1079640" cy="5050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77080" y="5950080"/>
            <a:ext cx="1079640" cy="50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1484280"/>
            <a:ext cx="2160720" cy="2448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Kokios spal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lunks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minuojan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m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Koks paveld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ė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jimas pavaizdu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tas schemo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88000" y="1268280"/>
            <a:ext cx="2411640" cy="25210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kryžminus balt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aidį su juoda viš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irmoje karto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likuon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vo visi mar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08960" y="1219320"/>
            <a:ext cx="726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cholaris.pl/cms/index.php/resources/animacja_cechy_dominuj%C4%85ce_i_recesyw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2692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000000"/>
                </a:solidFill>
                <a:latin typeface="Arial"/>
              </a:rPr>
              <a:t>Dihibridinis kryžmin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341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24c26"/>
                </a:solidFill>
                <a:latin typeface="Arial"/>
              </a:rPr>
              <a:t>Di</a:t>
            </a:r>
            <a:r>
              <a:rPr b="1" i="1" lang="lt-LT" sz="3200" spc="-1" strike="noStrike">
                <a:solidFill>
                  <a:srgbClr val="724c26"/>
                </a:solidFill>
                <a:latin typeface="Arial"/>
              </a:rPr>
              <a:t>hibridinis kryžminimas atliekamas tiriant dviejų požymių paveldėjim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2565360"/>
            <a:ext cx="453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724c26"/>
                </a:solidFill>
                <a:latin typeface="Arial"/>
              </a:rPr>
              <a:t>Požymiai: sėklos paviršius, sėklos spa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724c26"/>
                </a:solidFill>
                <a:latin typeface="Arial"/>
              </a:rPr>
              <a:t>Aleliai</a:t>
            </a:r>
            <a:r>
              <a:rPr b="1" i="1" lang="en-GB" sz="2800" spc="-1" strike="noStrike">
                <a:solidFill>
                  <a:srgbClr val="724c26"/>
                </a:solidFill>
                <a:latin typeface="Arial"/>
              </a:rPr>
              <a:t>: </a:t>
            </a: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en-GB" sz="2800" spc="-1" strike="noStrike">
                <a:solidFill>
                  <a:srgbClr val="724c26"/>
                </a:solidFill>
                <a:latin typeface="Arial"/>
              </a:rPr>
              <a:t> – </a:t>
            </a:r>
            <a:r>
              <a:rPr b="1" i="1" lang="lt-LT" sz="2800" spc="-1" strike="noStrike">
                <a:solidFill>
                  <a:srgbClr val="724c26"/>
                </a:solidFill>
                <a:latin typeface="Arial"/>
              </a:rPr>
              <a:t>lygios sėklos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724c26"/>
                </a:solidFill>
                <a:latin typeface="Arial"/>
              </a:rPr>
              <a:t>       </a:t>
            </a: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en-GB" sz="2800" spc="-1" strike="noStrike">
                <a:solidFill>
                  <a:srgbClr val="724c26"/>
                </a:solidFill>
                <a:latin typeface="Arial"/>
              </a:rPr>
              <a:t> – </a:t>
            </a:r>
            <a:r>
              <a:rPr b="1" i="1" lang="lt-LT" sz="2800" spc="-1" strike="noStrike">
                <a:solidFill>
                  <a:srgbClr val="724c26"/>
                </a:solidFill>
                <a:latin typeface="Arial"/>
              </a:rPr>
              <a:t>raukšlėtos sėk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i="1" lang="lt-LT" sz="2800" spc="-1" strike="noStrike">
                <a:solidFill>
                  <a:srgbClr val="cc3300"/>
                </a:solidFill>
                <a:latin typeface="Arial"/>
              </a:rPr>
              <a:t>Y- </a:t>
            </a:r>
            <a:r>
              <a:rPr b="1" i="1" lang="lt-LT" sz="2800" spc="-1" strike="noStrike">
                <a:solidFill>
                  <a:srgbClr val="724c26"/>
                </a:solidFill>
                <a:latin typeface="Arial"/>
              </a:rPr>
              <a:t>geltonos sėk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i="1" lang="lt-LT" sz="28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i="1" lang="lt-LT" sz="2800" spc="-1" strike="noStrike">
                <a:solidFill>
                  <a:srgbClr val="724c26"/>
                </a:solidFill>
                <a:latin typeface="Arial"/>
              </a:rPr>
              <a:t>-žalios spalvos               sėk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2421000"/>
            <a:ext cx="4175280" cy="3672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Arial"/>
              </a:rPr>
              <a:t>F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i="1" lang="lt-LT" sz="2400" spc="-1" strike="noStrike">
                <a:solidFill>
                  <a:srgbClr val="993300"/>
                </a:solidFill>
                <a:latin typeface="Arial"/>
              </a:rPr>
              <a:t> - 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rtos hibri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ryžmin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gau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ožymių išsiskyrim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santykiu</a:t>
            </a:r>
            <a:r>
              <a:rPr b="1" i="1" lang="lt-LT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9 : 3 : 3 : 1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i yra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tre</a:t>
            </a:r>
            <a:r>
              <a:rPr b="1" i="1" lang="lt-LT" sz="2800" spc="-1" strike="noStrike">
                <a:solidFill>
                  <a:srgbClr val="993300"/>
                </a:solidFill>
                <a:latin typeface="Arial"/>
              </a:rPr>
              <a:t>č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iasis</a:t>
            </a:r>
            <a:r>
              <a:rPr b="1" i="1" lang="lt-LT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Arial"/>
              </a:rPr>
              <a:t>Mendelio dėsn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3"/>
          <p:cNvGrpSpPr/>
          <p:nvPr/>
        </p:nvGrpSpPr>
        <p:grpSpPr>
          <a:xfrm>
            <a:off x="2576880" y="1890720"/>
            <a:ext cx="3956400" cy="454680"/>
            <a:chOff x="2576880" y="1890720"/>
            <a:chExt cx="3956400" cy="454680"/>
          </a:xfrm>
        </p:grpSpPr>
        <p:sp>
          <p:nvSpPr>
            <p:cNvPr id="218" name="Rectangle 4"/>
            <p:cNvSpPr/>
            <p:nvPr/>
          </p:nvSpPr>
          <p:spPr>
            <a:xfrm>
              <a:off x="2576880" y="1890720"/>
              <a:ext cx="60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5"/>
            <p:cNvSpPr/>
            <p:nvPr/>
          </p:nvSpPr>
          <p:spPr>
            <a:xfrm>
              <a:off x="3643560" y="1890720"/>
              <a:ext cx="60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Arial"/>
                </a:rPr>
                <a:t>R</a:t>
              </a:r>
              <a:r>
                <a:rPr b="1" lang="lt-LT" sz="2400" spc="-1" strike="noStrike">
                  <a:solidFill>
                    <a:srgbClr val="009688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6"/>
            <p:cNvSpPr/>
            <p:nvPr/>
          </p:nvSpPr>
          <p:spPr>
            <a:xfrm>
              <a:off x="4862880" y="1890720"/>
              <a:ext cx="60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009688"/>
                  </a:solidFill>
                  <a:latin typeface="Arial"/>
                </a:rPr>
                <a:t>R</a:t>
              </a:r>
              <a:r>
                <a:rPr b="1" lang="en-US" sz="2400" spc="-1" strike="noStrike">
                  <a:solidFill>
                    <a:srgbClr val="009688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7"/>
            <p:cNvSpPr/>
            <p:nvPr/>
          </p:nvSpPr>
          <p:spPr>
            <a:xfrm>
              <a:off x="5929560" y="1890720"/>
              <a:ext cx="60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009688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8"/>
          <p:cNvGrpSpPr/>
          <p:nvPr/>
        </p:nvGrpSpPr>
        <p:grpSpPr>
          <a:xfrm>
            <a:off x="1662120" y="2652840"/>
            <a:ext cx="545760" cy="3273840"/>
            <a:chOff x="1662120" y="2652840"/>
            <a:chExt cx="545760" cy="3273840"/>
          </a:xfrm>
        </p:grpSpPr>
        <p:sp>
          <p:nvSpPr>
            <p:cNvPr id="223" name="Rectangle 9"/>
            <p:cNvSpPr/>
            <p:nvPr/>
          </p:nvSpPr>
          <p:spPr>
            <a:xfrm>
              <a:off x="1662120" y="26528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b50069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"/>
            <p:cNvSpPr/>
            <p:nvPr/>
          </p:nvSpPr>
          <p:spPr>
            <a:xfrm>
              <a:off x="1662120" y="35672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b50069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1"/>
            <p:cNvSpPr/>
            <p:nvPr/>
          </p:nvSpPr>
          <p:spPr>
            <a:xfrm>
              <a:off x="1738440" y="455760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b50069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1738440" y="547200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b50069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3"/>
          <p:cNvGrpSpPr/>
          <p:nvPr/>
        </p:nvGrpSpPr>
        <p:grpSpPr>
          <a:xfrm>
            <a:off x="2268360" y="2421000"/>
            <a:ext cx="4512960" cy="3583080"/>
            <a:chOff x="2268360" y="2421000"/>
            <a:chExt cx="4512960" cy="3583080"/>
          </a:xfrm>
        </p:grpSpPr>
        <p:sp>
          <p:nvSpPr>
            <p:cNvPr id="228" name="Line 14"/>
            <p:cNvSpPr/>
            <p:nvPr/>
          </p:nvSpPr>
          <p:spPr>
            <a:xfrm>
              <a:off x="3339000" y="2427120"/>
              <a:ext cx="0" cy="357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>
              <a:off x="4486680" y="2427120"/>
              <a:ext cx="0" cy="357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6"/>
            <p:cNvSpPr/>
            <p:nvPr/>
          </p:nvSpPr>
          <p:spPr>
            <a:xfrm>
              <a:off x="5634000" y="2427120"/>
              <a:ext cx="0" cy="357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7"/>
            <p:cNvSpPr/>
            <p:nvPr/>
          </p:nvSpPr>
          <p:spPr>
            <a:xfrm>
              <a:off x="2274840" y="3298320"/>
              <a:ext cx="450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8"/>
            <p:cNvSpPr/>
            <p:nvPr/>
          </p:nvSpPr>
          <p:spPr>
            <a:xfrm>
              <a:off x="2268360" y="4249080"/>
              <a:ext cx="45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9"/>
            <p:cNvSpPr/>
            <p:nvPr/>
          </p:nvSpPr>
          <p:spPr>
            <a:xfrm>
              <a:off x="2274840" y="5126400"/>
              <a:ext cx="450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0"/>
            <p:cNvSpPr/>
            <p:nvPr/>
          </p:nvSpPr>
          <p:spPr>
            <a:xfrm>
              <a:off x="2268360" y="2421000"/>
              <a:ext cx="4512960" cy="3583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24000" y="26028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724c26"/>
                </a:solidFill>
                <a:latin typeface="Arial"/>
              </a:rPr>
              <a:t>Kryžminimas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: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Lygios sėklos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geltonos spalvos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x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aukšlėtos sėklos. žalios spal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♀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R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YY 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x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♂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 rr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 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Gametos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♀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Y; 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♂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 y 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;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7680" y="19368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Arial"/>
              </a:rPr>
              <a:t>F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51520" y="256536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70520" y="3500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2160" y="4437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70520" y="53006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8880" y="2637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21800" y="3500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0160" y="4437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0160" y="53006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4160" y="2637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26520" y="2708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4160" y="3500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53800" y="3500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4160" y="4437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3800" y="4437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4160" y="53006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26520" y="53006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7080" y="1268280"/>
            <a:ext cx="2016000" cy="51134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s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notip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i palikuo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ys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turė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lygias ge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tonas sėk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Genotipa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v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Heterozi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go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agal a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ožymi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alel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189000"/>
            <a:ext cx="79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724c26"/>
                </a:solidFill>
                <a:latin typeface="Arial"/>
              </a:rPr>
              <a:t>Kryžminimas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: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Lygios sėklos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geltonos spalvos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x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aukšlėtos sėklos. žalios spalvos( F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1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artos hibridai kry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ž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minami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tarpusavy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♀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Yy 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x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 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Gametos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♀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y   ;  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♂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 y 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;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  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061040" y="6689880"/>
            <a:ext cx="17780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4F47-E805-44D0-BB75-FB48540304AA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979640" y="2276640"/>
            <a:ext cx="502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rYy   x   RrY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468360" y="4797360"/>
            <a:ext cx="327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RY Ry rY 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5219640" y="4797360"/>
            <a:ext cx="327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RY Ry rY 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"/>
          <p:cNvSpPr/>
          <p:nvPr/>
        </p:nvSpPr>
        <p:spPr>
          <a:xfrm flipH="1">
            <a:off x="1981080" y="2852640"/>
            <a:ext cx="1222560" cy="19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5796000" y="2924280"/>
            <a:ext cx="833400" cy="18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324000" y="5589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omic Sans MS"/>
              </a:rPr>
              <a:t>Visos galimos gametų kombinac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11"/>
          <p:cNvSpPr/>
          <p:nvPr/>
        </p:nvSpPr>
        <p:spPr>
          <a:xfrm>
            <a:off x="3606840" y="6689880"/>
            <a:ext cx="24130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copyright cmassenga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3"/>
          <p:cNvGrpSpPr/>
          <p:nvPr/>
        </p:nvGrpSpPr>
        <p:grpSpPr>
          <a:xfrm>
            <a:off x="969120" y="2805120"/>
            <a:ext cx="4396320" cy="3274200"/>
            <a:chOff x="969120" y="2805120"/>
            <a:chExt cx="4396320" cy="3274200"/>
          </a:xfrm>
        </p:grpSpPr>
        <p:sp>
          <p:nvSpPr>
            <p:cNvPr id="264" name="Rectangle 4"/>
            <p:cNvSpPr/>
            <p:nvPr/>
          </p:nvSpPr>
          <p:spPr>
            <a:xfrm>
              <a:off x="973440" y="2805120"/>
              <a:ext cx="964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"/>
            <p:cNvSpPr/>
            <p:nvPr/>
          </p:nvSpPr>
          <p:spPr>
            <a:xfrm>
              <a:off x="969120" y="3719520"/>
              <a:ext cx="947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979920" y="4710240"/>
              <a:ext cx="90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7"/>
            <p:cNvSpPr/>
            <p:nvPr/>
          </p:nvSpPr>
          <p:spPr>
            <a:xfrm>
              <a:off x="975600" y="5624640"/>
              <a:ext cx="885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2112120" y="2805120"/>
              <a:ext cx="947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2107800" y="3719520"/>
              <a:ext cx="93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2118600" y="4710240"/>
              <a:ext cx="885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2115360" y="5624640"/>
              <a:ext cx="86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3265920" y="2805120"/>
              <a:ext cx="90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3"/>
            <p:cNvSpPr/>
            <p:nvPr/>
          </p:nvSpPr>
          <p:spPr>
            <a:xfrm>
              <a:off x="3261600" y="3719520"/>
              <a:ext cx="885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4"/>
            <p:cNvSpPr/>
            <p:nvPr/>
          </p:nvSpPr>
          <p:spPr>
            <a:xfrm>
              <a:off x="3272400" y="4710240"/>
              <a:ext cx="839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"/>
            <p:cNvSpPr/>
            <p:nvPr/>
          </p:nvSpPr>
          <p:spPr>
            <a:xfrm>
              <a:off x="3268080" y="5624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4404600" y="2805120"/>
              <a:ext cx="885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4401360" y="3719520"/>
              <a:ext cx="86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8"/>
            <p:cNvSpPr/>
            <p:nvPr/>
          </p:nvSpPr>
          <p:spPr>
            <a:xfrm>
              <a:off x="4487400" y="47102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4559040" y="5624640"/>
              <a:ext cx="806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0"/>
          <p:cNvGrpSpPr/>
          <p:nvPr/>
        </p:nvGrpSpPr>
        <p:grpSpPr>
          <a:xfrm>
            <a:off x="5423400" y="2637000"/>
            <a:ext cx="3566160" cy="3944160"/>
            <a:chOff x="5423400" y="2637000"/>
            <a:chExt cx="3566160" cy="3944160"/>
          </a:xfrm>
        </p:grpSpPr>
        <p:sp>
          <p:nvSpPr>
            <p:cNvPr id="281" name="Rectangle 21"/>
            <p:cNvSpPr/>
            <p:nvPr/>
          </p:nvSpPr>
          <p:spPr>
            <a:xfrm>
              <a:off x="5423400" y="2637000"/>
              <a:ext cx="356616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pvalios/geltonos: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pvalios/</a:t>
              </a:r>
              <a:r>
                <a:rPr b="1" lang="lt-LT" sz="2400" spc="-1" strike="noStrike">
                  <a:solidFill>
                    <a:srgbClr val="000000"/>
                  </a:solidFill>
                  <a:latin typeface="Comic Sans MS"/>
                </a:rPr>
                <a:t>žalios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000000"/>
                  </a:solidFill>
                  <a:latin typeface="Comic Sans MS"/>
                </a:rPr>
                <a:t>Raukšlėtos/geltonos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000000"/>
                  </a:solidFill>
                  <a:latin typeface="Comic Sans MS"/>
                </a:rPr>
                <a:t>Raukšlėtos/žalios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5531760" y="5760720"/>
              <a:ext cx="2589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9:3:3:1 </a:t>
              </a:r>
              <a:r>
                <a:rPr b="1" lang="lt-LT" sz="2400" spc="-1" strike="noStrike">
                  <a:solidFill>
                    <a:srgbClr val="b50069"/>
                  </a:solidFill>
                  <a:latin typeface="Comic Sans MS"/>
                </a:rPr>
                <a:t>fenotip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b50069"/>
                  </a:solidFill>
                  <a:latin typeface="Comic Sans MS"/>
                </a:rPr>
                <a:t>santyk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3"/>
          <p:cNvGrpSpPr/>
          <p:nvPr/>
        </p:nvGrpSpPr>
        <p:grpSpPr>
          <a:xfrm>
            <a:off x="290880" y="1967040"/>
            <a:ext cx="5119200" cy="4281480"/>
            <a:chOff x="290880" y="1967040"/>
            <a:chExt cx="5119200" cy="4281480"/>
          </a:xfrm>
        </p:grpSpPr>
        <p:sp>
          <p:nvSpPr>
            <p:cNvPr id="284" name="Line 24"/>
            <p:cNvSpPr/>
            <p:nvPr/>
          </p:nvSpPr>
          <p:spPr>
            <a:xfrm>
              <a:off x="1981080" y="2527200"/>
              <a:ext cx="0" cy="370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5"/>
            <p:cNvSpPr/>
            <p:nvPr/>
          </p:nvSpPr>
          <p:spPr>
            <a:xfrm>
              <a:off x="3124080" y="2527200"/>
              <a:ext cx="0" cy="370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6"/>
            <p:cNvSpPr/>
            <p:nvPr/>
          </p:nvSpPr>
          <p:spPr>
            <a:xfrm>
              <a:off x="4267080" y="2527200"/>
              <a:ext cx="0" cy="370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7"/>
            <p:cNvSpPr/>
            <p:nvPr/>
          </p:nvSpPr>
          <p:spPr>
            <a:xfrm>
              <a:off x="927000" y="3429000"/>
              <a:ext cx="448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8"/>
            <p:cNvSpPr/>
            <p:nvPr/>
          </p:nvSpPr>
          <p:spPr>
            <a:xfrm>
              <a:off x="927000" y="4419720"/>
              <a:ext cx="448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>
              <a:off x="927000" y="5334120"/>
              <a:ext cx="448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0"/>
            <p:cNvSpPr/>
            <p:nvPr/>
          </p:nvSpPr>
          <p:spPr>
            <a:xfrm>
              <a:off x="1205280" y="1967040"/>
              <a:ext cx="60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31"/>
            <p:cNvSpPr/>
            <p:nvPr/>
          </p:nvSpPr>
          <p:spPr>
            <a:xfrm>
              <a:off x="2272320" y="1967040"/>
              <a:ext cx="57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32"/>
            <p:cNvSpPr/>
            <p:nvPr/>
          </p:nvSpPr>
          <p:spPr>
            <a:xfrm>
              <a:off x="3490920" y="1967040"/>
              <a:ext cx="502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33"/>
            <p:cNvSpPr/>
            <p:nvPr/>
          </p:nvSpPr>
          <p:spPr>
            <a:xfrm>
              <a:off x="4557960" y="19670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34"/>
            <p:cNvSpPr/>
            <p:nvPr/>
          </p:nvSpPr>
          <p:spPr>
            <a:xfrm>
              <a:off x="290880" y="2728800"/>
              <a:ext cx="60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5"/>
            <p:cNvSpPr/>
            <p:nvPr/>
          </p:nvSpPr>
          <p:spPr>
            <a:xfrm>
              <a:off x="290880" y="3643200"/>
              <a:ext cx="57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6"/>
            <p:cNvSpPr/>
            <p:nvPr/>
          </p:nvSpPr>
          <p:spPr>
            <a:xfrm>
              <a:off x="366840" y="4633920"/>
              <a:ext cx="502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37"/>
            <p:cNvSpPr/>
            <p:nvPr/>
          </p:nvSpPr>
          <p:spPr>
            <a:xfrm>
              <a:off x="366840" y="554832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8"/>
            <p:cNvSpPr/>
            <p:nvPr/>
          </p:nvSpPr>
          <p:spPr>
            <a:xfrm>
              <a:off x="914400" y="2514600"/>
              <a:ext cx="4495680" cy="3733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50920" y="260280"/>
            <a:ext cx="82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724c26"/>
                </a:solidFill>
                <a:latin typeface="Arial"/>
              </a:rPr>
              <a:t>Kryžminimas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: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Lygios sėklos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geltonos spalvos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x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aukšlėtos sėklos. žalios spal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♀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Yy 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x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 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Gametos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♀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Y; Ry ; rY ; 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♂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 Y 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;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 R y ; rY; 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rcRect l="0" t="0" r="30820" b="4100"/>
          <a:stretch/>
        </p:blipFill>
        <p:spPr>
          <a:xfrm>
            <a:off x="395280" y="404640"/>
            <a:ext cx="4248000" cy="571824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20"/>
          <p:cNvGrpSpPr/>
          <p:nvPr/>
        </p:nvGrpSpPr>
        <p:grpSpPr>
          <a:xfrm>
            <a:off x="5136120" y="2276640"/>
            <a:ext cx="3566160" cy="3944160"/>
            <a:chOff x="5136120" y="2276640"/>
            <a:chExt cx="3566160" cy="3944160"/>
          </a:xfrm>
        </p:grpSpPr>
        <p:sp>
          <p:nvSpPr>
            <p:cNvPr id="302" name="Rectangle 21"/>
            <p:cNvSpPr/>
            <p:nvPr/>
          </p:nvSpPr>
          <p:spPr>
            <a:xfrm>
              <a:off x="5136120" y="2276640"/>
              <a:ext cx="356616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pvalios/geltonos: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pvalios/</a:t>
              </a:r>
              <a:r>
                <a:rPr b="1" lang="lt-LT" sz="2400" spc="-1" strike="noStrike">
                  <a:solidFill>
                    <a:srgbClr val="000000"/>
                  </a:solidFill>
                  <a:latin typeface="Comic Sans MS"/>
                </a:rPr>
                <a:t>žalios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000000"/>
                  </a:solidFill>
                  <a:latin typeface="Comic Sans MS"/>
                </a:rPr>
                <a:t>Raukšlėtos/geltonos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000000"/>
                  </a:solidFill>
                  <a:latin typeface="Comic Sans MS"/>
                </a:rPr>
                <a:t>Raukšlėtos/žalios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2"/>
            <p:cNvSpPr/>
            <p:nvPr/>
          </p:nvSpPr>
          <p:spPr>
            <a:xfrm>
              <a:off x="5244480" y="5400360"/>
              <a:ext cx="2589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9:3:3:1 </a:t>
              </a:r>
              <a:r>
                <a:rPr b="1" lang="lt-LT" sz="2400" spc="-1" strike="noStrike">
                  <a:solidFill>
                    <a:srgbClr val="b50069"/>
                  </a:solidFill>
                  <a:latin typeface="Comic Sans MS"/>
                </a:rPr>
                <a:t>fenotip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b50069"/>
                  </a:solidFill>
                  <a:latin typeface="Comic Sans MS"/>
                </a:rPr>
                <a:t>santyk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900000" y="1341360"/>
            <a:ext cx="1873440" cy="5749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i="1" lang="lt-LT" sz="1800" spc="-1" strike="noStrike">
                <a:solidFill>
                  <a:srgbClr val="000000"/>
                </a:solidFill>
                <a:latin typeface="Comic Sans MS"/>
              </a:rPr>
              <a:t> ka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Comic Sans MS"/>
              </a:rPr>
              <a:t>hibrid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enetikos mokslas ir jo uždavini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Pagr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ndinis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 genetikos uždavi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i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rti genų perdavimą iš kartos į kartą, nustatyti, kaip genuose esanti informacija virsta požymiu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paveldimum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Pagrindinis genetikos mokslo vienetas yra </a:t>
            </a:r>
            <a:r>
              <a:rPr b="1" i="1" lang="lt-LT" sz="3200" spc="-1" strike="noStrike">
                <a:solidFill>
                  <a:srgbClr val="993300"/>
                </a:solidFill>
                <a:latin typeface="Comic Sans MS"/>
              </a:rPr>
              <a:t>ge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ntm.purdue.edu/extensiongenomics/GAME/pinkflower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i="1" lang="lt-LT" sz="4400" spc="-1" strike="noStrike">
                <a:solidFill>
                  <a:srgbClr val="000000"/>
                </a:solidFill>
                <a:latin typeface="Comic Sans MS"/>
              </a:rPr>
              <a:t>agrindinės sąvok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Comic Sans MS"/>
              </a:rPr>
              <a:t>Genas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– DNR grandinės dalis, kurioje glūdi informacija apie vieną ar kitą požym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Comic Sans MS"/>
              </a:rPr>
              <a:t>Aleliniai genai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- dvi geno formos (dominuojantis ir recesyvin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Comic Sans MS"/>
              </a:rPr>
              <a:t>Dominuojantis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- stipresnis dviejų genų išreikštas požymis, žymimas didžiąja raide. (R)</a:t>
            </a:r>
            <a:r>
              <a:rPr b="0" lang="lt-L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Comic Sans MS"/>
              </a:rPr>
              <a:t>Recesyvinis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– silpniau išreikštas alelių poros požymis, žymimas mažąja raide. (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Comic Sans MS"/>
              </a:rPr>
              <a:t>Genotipas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– organizme esantys genai , jų kombinacijos. (pavyzdžiui. RR, Rr, rr)</a:t>
            </a:r>
            <a:r>
              <a:rPr b="0" lang="lt-L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Comic Sans MS"/>
              </a:rPr>
              <a:t>Fenotipas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– išoriniai, fiziniai požymiai, nulemti genotipo. (pavyzdžiui raudonas, bal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i="1" lang="lt-LT" sz="4400" spc="-1" strike="noStrike">
                <a:solidFill>
                  <a:srgbClr val="000000"/>
                </a:solidFill>
                <a:latin typeface="Comic Sans MS"/>
              </a:rPr>
              <a:t>agrindinės sąvok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993300"/>
                </a:solidFill>
                <a:latin typeface="Comic Sans MS"/>
              </a:rPr>
              <a:t>Homozigotinis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  genotipas –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leli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ų kombinacija, apimanti 2 dominantinius ar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ba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 2 recesyvinus genus (pavyzdžiui: RR ar rr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Heterozigotini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genotipas –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 alelių kombinacija, apimanti du skirtingus genus, dominantinį ir recesyvinį.( pavyzdžiui: Rr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utartiniai ženkl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Comic Sans MS"/>
                <a:ea typeface="Arial"/>
              </a:rPr>
              <a:t>P- 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ėv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Comic Sans MS"/>
                <a:ea typeface="Arial"/>
              </a:rPr>
              <a:t>♀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- motininis organ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Comic Sans MS"/>
                <a:ea typeface="Arial"/>
              </a:rPr>
              <a:t>♂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- tėvinis organ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Comic Sans MS"/>
                <a:ea typeface="Arial"/>
              </a:rPr>
              <a:t>A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(arba kita didžioji raidė)-dominuojantis požy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Comic Sans MS"/>
                <a:ea typeface="Arial"/>
              </a:rPr>
              <a:t>a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(arba kita mažoji raidė)- recesyvinis požym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Comic Sans MS"/>
                <a:ea typeface="Arial"/>
              </a:rPr>
              <a:t>X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– kryžminimo ženk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Comic Sans MS"/>
                <a:ea typeface="Arial"/>
              </a:rPr>
              <a:t>F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- k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000000"/>
                </a:solidFill>
                <a:latin typeface="Comic Sans MS"/>
              </a:rPr>
              <a:t>Alelių pora išsidėsčiusi homologinėse chromosom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51964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29603" t="23529" r="19458" b="13666"/>
          <a:stretch/>
        </p:blipFill>
        <p:spPr>
          <a:xfrm>
            <a:off x="3203640" y="1773360"/>
            <a:ext cx="5689440" cy="440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03640" y="5300640"/>
            <a:ext cx="647640" cy="576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1773360"/>
            <a:ext cx="647640" cy="576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2205000"/>
            <a:ext cx="129708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35280" y="4941720"/>
            <a:ext cx="10810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59640" y="1484280"/>
            <a:ext cx="1728720" cy="504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gam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32720" y="3141720"/>
            <a:ext cx="647640" cy="576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5229360"/>
            <a:ext cx="647640" cy="576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Tiriamų žirnių požymi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13450" t="0" r="0" b="0"/>
          <a:stretch/>
        </p:blipFill>
        <p:spPr>
          <a:xfrm>
            <a:off x="395280" y="1413000"/>
            <a:ext cx="8497800" cy="47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cc3300"/>
                </a:solidFill>
                <a:latin typeface="Comic Sans MS"/>
                <a:ea typeface="Arial"/>
              </a:rPr>
              <a:t>Peneto gardel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FG11_05b"/>
          <p:cNvPicPr/>
          <p:nvPr/>
        </p:nvPicPr>
        <p:blipFill>
          <a:blip r:embed="rId1"/>
          <a:srcRect l="5977" t="14162" r="51304" b="9872"/>
          <a:stretch/>
        </p:blipFill>
        <p:spPr>
          <a:xfrm>
            <a:off x="539640" y="2924280"/>
            <a:ext cx="3167280" cy="2663640"/>
          </a:xfrm>
          <a:prstGeom prst="rect">
            <a:avLst/>
          </a:prstGeom>
          <a:ln w="9360">
            <a:solidFill>
              <a:srgbClr val="724c26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539640" y="2924280"/>
            <a:ext cx="79236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292428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1080" y="306864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341360"/>
            <a:ext cx="8424720" cy="1150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cc3300"/>
                </a:solidFill>
                <a:latin typeface="Comic Sans MS"/>
              </a:rPr>
              <a:t>Peneto gardelė naudojama apskaičiuoti gali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cc3300"/>
                </a:solidFill>
                <a:latin typeface="Comic Sans MS"/>
              </a:rPr>
              <a:t>gaunamų individų genotipus ir fenotip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7640" y="2781360"/>
            <a:ext cx="381636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88000" y="28526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4720" y="335772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2924280"/>
            <a:ext cx="79200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6T13:50:17Z</dcterms:created>
  <dc:creator>Biologija</dc:creator>
  <dc:description/>
  <dc:language>en-US</dc:language>
  <cp:lastModifiedBy>Biologija</cp:lastModifiedBy>
  <dcterms:modified xsi:type="dcterms:W3CDTF">2010-10-28T18:53:45Z</dcterms:modified>
  <cp:revision>54</cp:revision>
  <dc:subject/>
  <dc:title>Skaidrė 1</dc:title>
</cp:coreProperties>
</file>